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156F-3583-4022-8334-DC21682CA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0123-D4F7-47F9-A69E-6C0EB3F71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8C30-60B0-48D5-A63E-ED08A8BC8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1ED9-1DDC-46B6-B232-B93DBD554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9C2E72-3530-4E50-9A20-A84DB3325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29E22C-79F1-42A5-B0B3-A5E1D9851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0E7AC0-7B5B-4006-AC58-8943F993A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3E95F2-406F-4C8F-8A0F-D81168147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62541C-50A5-47FC-A31F-A96731293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9640A6-2937-4917-9EF7-9B141E160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DC0D2D-48CD-4F6D-AFBE-DAF10397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C71C-C4F4-4C1D-A21A-DEA49E003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06E02F-F9A4-4B7F-B8BC-882A7AA35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A7F101-22F4-4CAE-BF9B-155F52439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DDBFA2-65CF-43DD-AF5E-1029DC7A2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CFF275-CBE7-41B5-B98A-C9B09C7A4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023AD1-44DE-4F91-B12C-50F336577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DA41-070D-42EB-8833-4A1500879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58E8-79C9-4E9B-8974-5F35E35FD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8663-D274-4C4A-A0A1-50A3266D7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B21C-84E9-428F-AB37-3E956ECAE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6B10-C889-40CB-B678-D7C1F909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063E-0B59-4BA5-95F8-06EA9ABA7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88B1-3105-467D-9E4D-921519A5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A67D9-D737-4707-9ECD-415F42FB96A5}" type="slidenum">
              <a:rPr b="0" lang="zh-TW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345E1-CBBC-4089-8AA8-9BD2E1A7C148}" type="slidenum">
              <a:rPr b="0" lang="zh-TW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&#23416;&#26399;&#22577;&#21578;&#38988;&#30446;.txt" TargetMode="External"/><Relationship Id="rId3" Type="http://schemas.openxmlformats.org/officeDocument/2006/relationships/hyperlink" Target="&#23416;&#26399;&#22577;&#21578;&#20839;&#23481;&#21450;&#26684;&#24335;.doc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s.ubc.ca/spider/harrison/Java/sorting-demo.html" TargetMode="External"/><Relationship Id="rId3" Type="http://schemas.openxmlformats.org/officeDocument/2006/relationships/hyperlink" Target="http://content.edu.tw/senior/computer/ks_ks/book/algodata/algorithm/algo4.htm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349"/>
              </a:spcBef>
              <a:buClr>
                <a:srgbClr val="ffffff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Tahoma"/>
                <a:ea typeface="細明體"/>
              </a:rPr>
              <a:t>分組完成以下之排序演算法學期專題報告：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繳交時間：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 algn="just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just">
              <a:spcBef>
                <a:spcPts val="901"/>
              </a:spcBef>
              <a:buClr>
                <a:srgbClr val="ffffff"/>
              </a:buClr>
              <a:buSzPct val="12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TW" sz="36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zh-TW" sz="3600" spc="-1" strike="noStrike">
                <a:solidFill>
                  <a:srgbClr val="ffffff"/>
                </a:solidFill>
                <a:latin typeface="Tahoma"/>
              </a:rPr>
              <a:t>月  </a:t>
            </a:r>
            <a:r>
              <a:rPr b="0" lang="zh-TW" sz="36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0" lang="zh-TW" sz="3600" spc="-1" strike="noStrike">
                <a:solidFill>
                  <a:srgbClr val="ffffff"/>
                </a:solidFill>
                <a:latin typeface="Tahoma"/>
              </a:rPr>
              <a:t>日以電子郵件方式繳交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 algn="just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just">
              <a:spcBef>
                <a:spcPts val="901"/>
              </a:spcBef>
              <a:buClr>
                <a:srgbClr val="ffffff"/>
              </a:buClr>
              <a:buSzPct val="12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TW" sz="36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zh-TW" sz="3600" spc="-1" strike="noStrike">
                <a:solidFill>
                  <a:srgbClr val="ffffff"/>
                </a:solidFill>
                <a:latin typeface="Tahoma"/>
              </a:rPr>
              <a:t>月</a:t>
            </a:r>
            <a:r>
              <a:rPr b="0" lang="zh-TW" sz="3600" spc="-1" strike="noStrike">
                <a:solidFill>
                  <a:srgbClr val="ffffff"/>
                </a:solidFill>
                <a:latin typeface="Tahoma"/>
              </a:rPr>
              <a:t>10</a:t>
            </a:r>
            <a:r>
              <a:rPr b="0" lang="zh-TW" sz="3600" spc="-1" strike="noStrike">
                <a:solidFill>
                  <a:srgbClr val="ffffff"/>
                </a:solidFill>
                <a:latin typeface="Tahoma"/>
              </a:rPr>
              <a:t>日以書面方式繳交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Term Project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學期報告題目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學期報告內容及格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Term Project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ahoma"/>
              </a:rPr>
              <a:t>參考資料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just">
              <a:spcBef>
                <a:spcPts val="9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Sorting Algorithm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 algn="just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just">
              <a:spcBef>
                <a:spcPts val="9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排序演算法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 algn="just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 algn="just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Term Project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5T21:14:41Z</dcterms:created>
  <dc:creator>江振瑞</dc:creator>
  <dc:description/>
  <dc:language>en-US</dc:language>
  <cp:lastModifiedBy>江振瑞</cp:lastModifiedBy>
  <dcterms:modified xsi:type="dcterms:W3CDTF">2001-12-26T15:44:22Z</dcterms:modified>
  <cp:revision>2</cp:revision>
  <dc:subject/>
  <dc:title>Term Project</dc:title>
</cp:coreProperties>
</file>